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6FB-CEC3-4CDD-A489-91C6074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0E2-B593-45E5-9329-B5655CEE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C94-E3D8-4ABD-BAE8-439E3153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F41-C9E4-44D1-B650-A57294D5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538-B2A0-4185-A1AC-460EC4B5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45D-A647-4930-B330-FE06FD2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94D-F5BC-4F1C-AD63-40E3B0B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409-04E9-45A9-A384-63633697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5573-3C5E-4B1B-B007-E4AE1AD3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566-2FA6-4819-A42A-79984D7B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B38-E485-4FF2-B867-02C3FDBF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671-17D5-4B08-B8F8-ADE2E319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4C00-4718-4F0E-888C-D09026AB63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 Goats action pl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ly 20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(Please indic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your team name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t keepers and Field gu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3760" y="1143000"/>
          <a:ext cx="9120240" cy="5759280"/>
        </p:xfrm>
        <a:graphic>
          <a:graphicData uri="http://schemas.openxmlformats.org/drawingml/2006/table">
            <a:tbl>
              <a:tblPr/>
              <a:tblGrid>
                <a:gridCol w="3043440"/>
                <a:gridCol w="1984320"/>
                <a:gridCol w="1050840"/>
                <a:gridCol w="304164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ictorial handouts --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/ Rath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0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-Dr.Deo/Dr.Bhatnag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ist for sket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hoto storie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5 sto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 /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MK- Navneet/ Raje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-comm; Translator-Hin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lk song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(6) (each song 5-10 min dur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Nikhilesh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UMK- Rajeev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9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l artists/ Super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deo recording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actical demonstrations – with progressive goatkeepers  (5-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R-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KD- Raje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ical support – Rathod,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Technical guidelines /Training mo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odify existing material – user friendl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Deo/ Nikhi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Dr.Bhatnagar (AH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mmary of baseline findings-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s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8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Reports – 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 page Factshe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7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9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57120" y="1071720"/>
          <a:ext cx="8372520" cy="5286240"/>
        </p:xfrm>
        <a:graphic>
          <a:graphicData uri="http://schemas.openxmlformats.org/drawingml/2006/table">
            <a:tbl>
              <a:tblPr/>
              <a:tblGrid>
                <a:gridCol w="3160800"/>
                <a:gridCol w="1098360"/>
                <a:gridCol w="952560"/>
                <a:gridCol w="3160800"/>
              </a:tblGrid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1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arket information bulletin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or organizing goat fai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9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, Dr. 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ther organ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760" y="1071720"/>
          <a:ext cx="8358120" cy="5064120"/>
        </p:xfrm>
        <a:graphic>
          <a:graphicData uri="http://schemas.openxmlformats.org/drawingml/2006/table">
            <a:tbl>
              <a:tblPr/>
              <a:tblGrid>
                <a:gridCol w="3155760"/>
                <a:gridCol w="1096920"/>
                <a:gridCol w="949320"/>
                <a:gridCol w="315612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flet- IMGoats project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Hindi transla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khil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07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nslation-Hindi; ILRI-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eaflet – IP proces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nglish/ Hin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l/Nikhilesh, Translation; ILRI-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op –Share experiences with local partner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eek Dec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researc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8760" y="1214280"/>
          <a:ext cx="8215200" cy="5199120"/>
        </p:xfrm>
        <a:graphic>
          <a:graphicData uri="http://schemas.openxmlformats.org/drawingml/2006/table">
            <a:tbl>
              <a:tblPr/>
              <a:tblGrid>
                <a:gridCol w="3101760"/>
                <a:gridCol w="1077840"/>
                <a:gridCol w="933480"/>
                <a:gridCol w="3102120"/>
              </a:tblGrid>
              <a:tr h="712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produc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audien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leads 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y w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pport needed?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who could help perhaps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IP process doc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 team/ IL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6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olicy brief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 analysis – </a:t>
                      </a: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Consult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0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IF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Research paper  -- learnings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mkumar/ Dr.D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/11/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RI; B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10:11:57Z</dcterms:created>
  <dc:creator>eleborgne</dc:creator>
  <dc:description/>
  <dc:language>en-US</dc:language>
  <cp:lastModifiedBy>icrisat</cp:lastModifiedBy>
  <dcterms:modified xsi:type="dcterms:W3CDTF">2012-07-06T07:33:06Z</dcterms:modified>
  <cp:revision>28</cp:revision>
  <dc:subject/>
  <dc:title>IM Goats action plan July 2012</dc:title>
</cp:coreProperties>
</file>